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D903-F960-485E-BFEC-64AF1AF2B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STXM-details.pdf  10 Feb 2013  - elastic scatter (angle) never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insert) Image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628033  (1700 EV, circle is known as hot 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Polarization dependence : XGLabd (txt)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0628012.dta to 100628019.dta   (20 is 300 sec also at 1700 eV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) from excel fi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elastic-signal-Jun2010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nvi_Sci_Tech (2012) Fig. 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_Sci_Tech (2012) Fig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XM-London-2012.ppt   WHAT IS PUBLISHED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txm11\2010\10-10\10-02\001     Y:\data\XRM\stxm-11\2010\10-10\10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XRM\stxm-11\2010\10-10\10-02\003   stack of stacks (bit integrated X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-d)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d ref. spectra from  Geochim_Cosmochim_Acta_72_2008_3949-As-NEXAFS-acid-min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XRF-yield NEXAFS:   stxm11\2010\10-10\10-03\03-02\003        Y:\data\XRM\stxm-11\2010\10-10\10-02\11_10100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S Feb 2012   stack A120205008  (*.ssb – all XRF saved)  stack  stack A120205046 – channels only (but Mg / A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120205044 area for stack 46 (lower slits &amp; flux; PMT, 1 ms d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066680"/>
          <a:ext cx="3306960" cy="23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30696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62120" y="1219320"/>
            <a:ext cx="1143000" cy="1181160"/>
            <a:chOff x="762120" y="1219320"/>
            <a:chExt cx="1143000" cy="1181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62120" y="1219320"/>
              <a:ext cx="1143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85200" y="1887840"/>
              <a:ext cx="87120" cy="88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42320" y="20574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5640" y="120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05320" y="1066680"/>
          <a:ext cx="2824200" cy="20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066680"/>
                    <a:ext cx="2824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95440" y="773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1680" y="838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3352680"/>
          <a:ext cx="3200400" cy="228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3352680"/>
                    <a:ext cx="32004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880" y="3505320"/>
          <a:ext cx="3124440" cy="22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3505320"/>
                    <a:ext cx="3124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9544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98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3"/>
          <p:cNvGraphicFramePr/>
          <p:nvPr/>
        </p:nvGraphicFramePr>
        <p:xfrm>
          <a:off x="0" y="609480"/>
          <a:ext cx="38419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41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6"/>
          <p:cNvSpPr/>
          <p:nvPr/>
        </p:nvSpPr>
        <p:spPr>
          <a:xfrm>
            <a:off x="4082400" y="264960"/>
            <a:ext cx="236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Fe map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  <a:ea typeface="MS PGothic"/>
              </a:rPr>
              <a:t>bio map (pre-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"/>
          <p:cNvSpPr/>
          <p:nvPr/>
        </p:nvSpPr>
        <p:spPr>
          <a:xfrm>
            <a:off x="4267080" y="3129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6"/>
          <p:cNvGrpSpPr/>
          <p:nvPr/>
        </p:nvGrpSpPr>
        <p:grpSpPr>
          <a:xfrm>
            <a:off x="3962520" y="609480"/>
            <a:ext cx="2736720" cy="3124080"/>
            <a:chOff x="3962520" y="609480"/>
            <a:chExt cx="2736720" cy="3124080"/>
          </a:xfrm>
        </p:grpSpPr>
        <p:pic>
          <p:nvPicPr>
            <p:cNvPr id="69" name="Picture 57" descr=""/>
            <p:cNvPicPr/>
            <p:nvPr/>
          </p:nvPicPr>
          <p:blipFill>
            <a:blip r:embed="rId3"/>
            <a:stretch/>
          </p:blipFill>
          <p:spPr>
            <a:xfrm>
              <a:off x="3962520" y="609480"/>
              <a:ext cx="273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58"/>
            <p:cNvSpPr/>
            <p:nvPr/>
          </p:nvSpPr>
          <p:spPr>
            <a:xfrm>
              <a:off x="4419360" y="3428640"/>
              <a:ext cx="45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9"/>
          <p:cNvSpPr/>
          <p:nvPr/>
        </p:nvSpPr>
        <p:spPr>
          <a:xfrm>
            <a:off x="4363560" y="30481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5334120" y="2362320"/>
            <a:ext cx="838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2" descr=""/>
          <p:cNvPicPr/>
          <p:nvPr/>
        </p:nvPicPr>
        <p:blipFill>
          <a:blip r:embed="rId4"/>
          <a:stretch/>
        </p:blipFill>
        <p:spPr>
          <a:xfrm>
            <a:off x="4108320" y="7132680"/>
            <a:ext cx="2505240" cy="1590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4776120" y="7165800"/>
            <a:ext cx="11743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MS PGothic"/>
              </a:rPr>
              <a:t>As </a:t>
            </a:r>
            <a:r>
              <a:rPr b="1" lang="en-US" sz="1400" spc="-1" strike="noStrike">
                <a:solidFill>
                  <a:srgbClr val="00cc00"/>
                </a:solidFill>
                <a:latin typeface="Comic Sans MS"/>
                <a:ea typeface="MS PGothic"/>
              </a:rPr>
              <a:t>Fe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As/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8"/>
          <p:cNvSpPr/>
          <p:nvPr/>
        </p:nvSpPr>
        <p:spPr>
          <a:xfrm>
            <a:off x="6089760" y="8537400"/>
            <a:ext cx="333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848200" y="82328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2505240" cy="159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4919400" y="3773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Ars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96"/>
          <p:cNvGrpSpPr/>
          <p:nvPr/>
        </p:nvGrpSpPr>
        <p:grpSpPr>
          <a:xfrm>
            <a:off x="6240240" y="3770280"/>
            <a:ext cx="384840" cy="1686960"/>
            <a:chOff x="6240240" y="3770280"/>
            <a:chExt cx="384840" cy="1686960"/>
          </a:xfrm>
        </p:grpSpPr>
        <p:pic>
          <p:nvPicPr>
            <p:cNvPr id="80" name="Picture 97" descr=""/>
            <p:cNvPicPr/>
            <p:nvPr/>
          </p:nvPicPr>
          <p:blipFill>
            <a:blip r:embed="rId6"/>
            <a:stretch/>
          </p:blipFill>
          <p:spPr>
            <a:xfrm>
              <a:off x="6318360" y="4041720"/>
              <a:ext cx="228600" cy="114156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1" name="Text Box 32"/>
            <p:cNvSpPr/>
            <p:nvPr/>
          </p:nvSpPr>
          <p:spPr>
            <a:xfrm>
              <a:off x="6240240" y="3770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6291000" y="515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7"/>
          <a:srcRect l="537" t="0" r="0" b="0"/>
          <a:stretch/>
        </p:blipFill>
        <p:spPr>
          <a:xfrm>
            <a:off x="4119480" y="5484960"/>
            <a:ext cx="249228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5074560" y="5502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6"/>
          <p:cNvGrpSpPr/>
          <p:nvPr/>
        </p:nvGrpSpPr>
        <p:grpSpPr>
          <a:xfrm>
            <a:off x="6201720" y="5446800"/>
            <a:ext cx="487080" cy="1686600"/>
            <a:chOff x="6201720" y="5446800"/>
            <a:chExt cx="487080" cy="1686600"/>
          </a:xfrm>
        </p:grpSpPr>
        <p:pic>
          <p:nvPicPr>
            <p:cNvPr id="86" name="Picture 77" descr=""/>
            <p:cNvPicPr/>
            <p:nvPr/>
          </p:nvPicPr>
          <p:blipFill>
            <a:blip r:embed="rId8"/>
            <a:stretch/>
          </p:blipFill>
          <p:spPr>
            <a:xfrm>
              <a:off x="6332400" y="5718240"/>
              <a:ext cx="226800" cy="114120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7" name="Text Box 32"/>
            <p:cNvSpPr/>
            <p:nvPr/>
          </p:nvSpPr>
          <p:spPr>
            <a:xfrm>
              <a:off x="6201720" y="5446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6303600" y="6826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7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992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6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6240" y="550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710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932120" cy="215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7400" y="457200"/>
            <a:ext cx="2190600" cy="236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8806680"/>
            <a:ext cx="1770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8800" y="28954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52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760" y="60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2316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96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" y="2819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194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2400" y="762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533520"/>
            <a:ext cx="1936800" cy="21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35320" y="685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5680" y="2392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954080" cy="215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4080" y="342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5280" y="513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36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/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66880" y="3352680"/>
            <a:ext cx="19288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82880" y="29322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20196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" y="5877000"/>
            <a:ext cx="140004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57200" y="7705800"/>
            <a:ext cx="1386000" cy="143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240" y="728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2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2286000" y="5715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46040" y="7848720"/>
            <a:ext cx="13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  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6720" y="7924680"/>
            <a:ext cx="13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572000" y="5638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320652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3480" y="8609760"/>
            <a:ext cx="25322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- 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1938240" cy="17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960" y="1126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signal from XRF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omposition ? M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760" y="36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NEX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493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560" y="79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9720" y="1574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00920" y="1843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2023920" cy="185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91840" y="2703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(V) sco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2320" y="3048120"/>
            <a:ext cx="2100240" cy="193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68680" y="2743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(III) tooe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71800" cy="190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4160" y="25750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gO (from XRF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733920" y="5334120"/>
            <a:ext cx="2749320" cy="29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7280" y="49528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80880" y="640080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7800" y="794844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8120" y="6826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00" y="5257800"/>
            <a:ext cx="3629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ized ref. spectra fr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chim_Cosmochim_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2_2008_3949-As-NEXAFS-acid-min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7315200"/>
            <a:ext cx="2133720" cy="1725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136044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20800" y="19810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303560" cy="14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4960" y="76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4440" y="414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0600" y="167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52480" y="457200"/>
            <a:ext cx="128916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743560" y="444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9720" y="1706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324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457200"/>
            <a:ext cx="129204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8040" y="76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18080" y="259092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3710" t="0" r="0" b="0"/>
          <a:stretch/>
        </p:blipFill>
        <p:spPr>
          <a:xfrm>
            <a:off x="2057400" y="236232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rcRect l="3710" t="0" r="0" b="0"/>
          <a:stretch/>
        </p:blipFill>
        <p:spPr>
          <a:xfrm>
            <a:off x="220680" y="243828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52280" y="5410080"/>
            <a:ext cx="1905120" cy="172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64832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80773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2438280" y="708660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7280" y="79246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2485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-rich &amp; V-rich pectra diff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33720" cy="1725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5410080"/>
            <a:ext cx="3505320" cy="31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860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000" y="1143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14600" y="15228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3600" y="9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7543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I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V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tra diffe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-39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666880" y="2514600"/>
            <a:ext cx="173520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5840" y="247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4836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re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8381880"/>
            <a:ext cx="161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S_Feb2012_Mg_As_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0040" y="493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use of stacks~analyse~XRF-stack-of-s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567240" cy="23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51200" y="252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840" y="746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00760" y="336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429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1640" y="519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7960" y="450684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209680" cy="141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7400" y="3427560"/>
            <a:ext cx="533520" cy="1068120"/>
          </a:xfrm>
          <a:custGeom>
            <a:avLst/>
            <a:gdLst/>
            <a:ahLst/>
            <a:rect l="l" t="t" r="r" b="b"/>
            <a:pathLst>
              <a:path w="336" h="673">
                <a:moveTo>
                  <a:pt x="0" y="673"/>
                </a:moveTo>
                <a:lnTo>
                  <a:pt x="0" y="577"/>
                </a:lnTo>
                <a:cubicBezTo>
                  <a:pt x="24" y="545"/>
                  <a:pt x="104" y="553"/>
                  <a:pt x="144" y="481"/>
                </a:cubicBezTo>
                <a:cubicBezTo>
                  <a:pt x="184" y="409"/>
                  <a:pt x="211" y="225"/>
                  <a:pt x="240" y="145"/>
                </a:cubicBezTo>
                <a:cubicBezTo>
                  <a:pt x="269" y="65"/>
                  <a:pt x="305" y="19"/>
                  <a:pt x="317" y="0"/>
                </a:cubicBezTo>
                <a:lnTo>
                  <a:pt x="312" y="30"/>
                </a:lnTo>
                <a:lnTo>
                  <a:pt x="336" y="673"/>
                </a:lnTo>
                <a:lnTo>
                  <a:pt x="0" y="67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3151080"/>
            <a:ext cx="801720" cy="1344600"/>
          </a:xfrm>
          <a:custGeom>
            <a:avLst/>
            <a:gdLst/>
            <a:ahLst/>
            <a:rect l="l" t="t" r="r" b="b"/>
            <a:pathLst>
              <a:path w="505" h="847">
                <a:moveTo>
                  <a:pt x="25" y="847"/>
                </a:moveTo>
                <a:lnTo>
                  <a:pt x="505" y="847"/>
                </a:lnTo>
                <a:lnTo>
                  <a:pt x="505" y="751"/>
                </a:lnTo>
                <a:lnTo>
                  <a:pt x="409" y="655"/>
                </a:lnTo>
                <a:lnTo>
                  <a:pt x="313" y="415"/>
                </a:lnTo>
                <a:lnTo>
                  <a:pt x="217" y="127"/>
                </a:lnTo>
                <a:cubicBezTo>
                  <a:pt x="187" y="62"/>
                  <a:pt x="156" y="43"/>
                  <a:pt x="132" y="27"/>
                </a:cubicBezTo>
                <a:cubicBezTo>
                  <a:pt x="108" y="11"/>
                  <a:pt x="95" y="0"/>
                  <a:pt x="73" y="31"/>
                </a:cubicBezTo>
                <a:cubicBezTo>
                  <a:pt x="51" y="62"/>
                  <a:pt x="8" y="77"/>
                  <a:pt x="0" y="213"/>
                </a:cubicBezTo>
                <a:lnTo>
                  <a:pt x="25" y="8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0320" y="60958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g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“b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5640" y="65530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s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Mg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44 OD (1300 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lipped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7200" y="7086600"/>
            <a:ext cx="252360" cy="1389240"/>
            <a:chOff x="3967200" y="7086600"/>
            <a:chExt cx="252360" cy="138924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4024440" y="7329240"/>
              <a:ext cx="109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967200" y="7086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720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18320" y="8534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6629400"/>
            <a:ext cx="2952360" cy="2327040"/>
            <a:chOff x="838080" y="6629400"/>
            <a:chExt cx="2952360" cy="2327040"/>
          </a:xfrm>
        </p:grpSpPr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38080" y="6629400"/>
              <a:ext cx="295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88960" y="8431200"/>
              <a:ext cx="56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09120" y="80773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2640" y="67057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8800" y="6705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480" y="3276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85800"/>
            <a:ext cx="27432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360" y="7086600"/>
            <a:ext cx="372960" cy="1389240"/>
            <a:chOff x="4284360" y="7086600"/>
            <a:chExt cx="372960" cy="1389240"/>
          </a:xfrm>
        </p:grpSpPr>
        <p:sp>
          <p:nvSpPr>
            <p:cNvPr id="224" name=""/>
            <p:cNvSpPr/>
            <p:nvPr/>
          </p:nvSpPr>
          <p:spPr>
            <a:xfrm>
              <a:off x="4284360" y="7086600"/>
              <a:ext cx="3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4433760" y="7331040"/>
              <a:ext cx="10944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1:04:28Z</dcterms:created>
  <dc:creator>aph</dc:creator>
  <dc:description/>
  <dc:language>en-US</dc:language>
  <cp:lastModifiedBy>Adam Hitchcock</cp:lastModifiedBy>
  <dcterms:modified xsi:type="dcterms:W3CDTF">2023-05-07T20:49:06Z</dcterms:modified>
  <cp:revision>54</cp:revision>
  <dc:subject/>
  <dc:title>Fig. 1</dc:title>
</cp:coreProperties>
</file>