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5AEC1-44E5-4212-912D-8FCFB71E58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FAD7F-B642-4C36-8722-F0ADFA0C1A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CBAE4-9749-42A6-9068-1A7A82101F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4648C-3D9D-4ABB-8809-EDFAF256A7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C7498-51F5-4C6C-87EF-E6BF338E11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40779-211C-4B19-9D35-FE8BE6C1D5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69303-4590-40EB-8902-41140824E0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868C0-010E-4C5D-A227-3B200D6C68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-360" y="-168120"/>
            <a:ext cx="455148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24206-D3A2-4B85-B7BA-D78FB43844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2A14B-AD84-4122-8B31-136620492C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757AB-B1EA-4740-BDC9-3BD36A4C9A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8BA2C-9029-4D33-B589-E6D4C2EE49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934320" y="6533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65DDA-2A94-4B59-8811-F081BF6AA3F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-179280"/>
            <a:ext cx="4091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roving output of im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"/>
          <p:cNvSpPr/>
          <p:nvPr/>
        </p:nvSpPr>
        <p:spPr>
          <a:xfrm>
            <a:off x="152280" y="685800"/>
            <a:ext cx="899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Xiaohui Zhu, Adam Hitchcock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McMas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8680" y="6504120"/>
            <a:ext cx="402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riting_high_quality_images_from_IDL.ppt  20-Oct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7800" y="1300320"/>
            <a:ext cx="814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OALS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save a graphical image file that preserves ALL of the quality of the images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F4481-5BA8-4400-8BD7-2621E7B58C6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1346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119320"/>
            <a:ext cx="3746520" cy="4738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2760" y="547560"/>
            <a:ext cx="824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13-mag-cell.axb;  data is [671,847).  If use any of the image writers in aXis2000 they only get the data in the Main window display, which in most cases is 360*SCL maximum dimension , where SCL is the scale factor in axis_win.ini.  So for this data you need SCL = 2.4 to get all the pix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1800" y="1614600"/>
            <a:ext cx="45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vscl, a.d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ere a=axb_load(file=‘013-mag-cell.axb’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0120" y="1309680"/>
            <a:ext cx="13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reen shot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14502" t="11126" r="14754" b="2616"/>
          <a:stretch/>
        </p:blipFill>
        <p:spPr>
          <a:xfrm>
            <a:off x="4038480" y="2362320"/>
            <a:ext cx="2124360" cy="2743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38280" y="3686040"/>
            <a:ext cx="7621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697800" y="2286000"/>
            <a:ext cx="2344680" cy="2819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78880" y="5410080"/>
            <a:ext cx="220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me area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tycho-mtb-figure_02.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2F6F6-75C4-4495-96F3-C064D1E785B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168120"/>
            <a:ext cx="51703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ILD command line 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340560" y="609480"/>
            <a:ext cx="7139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a=axb_load(file=‘013-mag-cell.axb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q=a.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the data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r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g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b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scl = 255/(max(q)-min(q)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scale the data to fill 0-255 (8-b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e = fix((q-min(q))*scl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convert scaled data (full range) to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write_png, 'test.png', e,  r, g ,b            ; writes a loss-less png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3316320" cy="4186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20200" y="2590920"/>
            <a:ext cx="1666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 it any better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62520" y="3352680"/>
            <a:ext cx="2276280" cy="2248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90920" y="3962520"/>
            <a:ext cx="609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rcRect l="14502" t="11126" r="14754" b="2616"/>
          <a:stretch/>
        </p:blipFill>
        <p:spPr>
          <a:xfrm>
            <a:off x="6629400" y="3352680"/>
            <a:ext cx="177012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49280" y="6033960"/>
            <a:ext cx="19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t least it is as good 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6DE48-F9FB-4EDD-89FC-20379DB18DD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06:38:15Z</dcterms:created>
  <dc:creator>Adam Hitchcock</dc:creator>
  <dc:description/>
  <dc:language>en-US</dc:language>
  <cp:lastModifiedBy>aph</cp:lastModifiedBy>
  <dcterms:modified xsi:type="dcterms:W3CDTF">2016-10-21T17:15:46Z</dcterms:modified>
  <cp:revision>33</cp:revision>
  <dc:subject/>
  <dc:title>Slide 1</dc:title>
</cp:coreProperties>
</file>