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5CC-6F83-4CC0-9B3E-3816B596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A02-C320-4ECD-82FF-A2C4366E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296-7F6C-4333-BE5E-A6F1743E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FD4-FA52-4E70-9698-7B054E8A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B3F-7710-46D4-8730-32478A93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0F2-B3FF-4C6E-B56E-964D3D8A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767-939B-4333-A0B9-CA0E505D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051-340D-4B97-ADFC-756270C3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9A1-0A87-48C2-A61E-44EC8861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858-5E52-4A42-8FDF-D5AD1D3E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8C11-A851-43E6-BF60-19C69414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F2B-D8B5-46D3-972F-A7531716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5D68-9654-4F04-9DB6-41D6662F7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349960" cy="590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897280" y="1504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81280" y="1504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6520" y="1484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46720" y="36655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4076640"/>
            <a:ext cx="12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caled olor com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trix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PIP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S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560" y="7840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68960" y="1846440"/>
            <a:ext cx="3767040" cy="3860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6360" y="1364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65320" y="1773360"/>
            <a:ext cx="2186280" cy="412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67680" y="1504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5440" y="14860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07480" y="1557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28600" y="2492280"/>
            <a:ext cx="2340000" cy="243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83120" y="43657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86760" y="3213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86040" y="2492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76600" y="3284640"/>
            <a:ext cx="431640" cy="215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04960" y="3862440"/>
            <a:ext cx="432000" cy="71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76600" y="4292640"/>
            <a:ext cx="43164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760" y="1865160"/>
            <a:ext cx="278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reference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355-linescan-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0" y="1557360"/>
            <a:ext cx="8964360" cy="4392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1T02:44:29Z</dcterms:created>
  <dc:creator>Adam Hitchcock</dc:creator>
  <dc:description/>
  <dc:language>en-US</dc:language>
  <cp:lastModifiedBy>Adam Hitchcock</cp:lastModifiedBy>
  <dcterms:modified xsi:type="dcterms:W3CDTF">2023-01-11T21:48:16Z</dcterms:modified>
  <cp:revision>2</cp:revision>
  <dc:subject/>
  <dc:title>Slide 1</dc:title>
</cp:coreProperties>
</file>